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EAFA-D92C-417C-AE08-D3B4B30A5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78E6-4021-40BA-B821-875FBD678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 Calculate the electric potential energy stored in a hydrogen ato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q = 1.60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1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r = 5.29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574A-328B-4606-8D2C-5BE9D70D7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g.  354 #1 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F909A-9575-410A-9938-D63493137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A0422-4A3C-4A8D-8D02-7CC275BA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96E54-4991-48EF-AEBC-7D77D00DB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DDF2C-D06D-4549-BBD4-753FC6BCA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DCC1-17A4-484C-AA01-5A05C7260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DF6D-58AA-4CE2-AF6B-A9F569B9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10A5-5433-4D02-80CB-B5744D68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5401-5F39-421C-A8E8-664D8119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9C2C-AA8B-4FB5-9B73-446D10F7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EA38-AAAC-4523-9AD9-ED8A0985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389A-4076-4974-9B45-EE9B96A7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F8F90-43B8-4B9B-B3CC-28DA1CCD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3511-4384-46CD-9B4E-57916028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E325-902F-46AC-AC5D-DB412B01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4B15-832F-4C7C-95D2-9310C66A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3F6D-85D6-4B67-9325-17847055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CE38-EA11-4767-835E-D90FEF520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5315B-D0CA-4279-BBC2-8D7B3095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C5058-6E8C-442F-8930-4CD385AD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85746-0BA6-45F5-9C8B-21D5EB98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B9D3C-1BD7-4882-855B-BDDD9160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7BA24-0552-44B1-86B2-1C0F9CFB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AE11E-A22A-4C91-B4B3-234E4E2F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C5127-A042-4D38-89CF-47D00C02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5533-7C27-4A66-8879-4B05B2435B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D906-339C-4372-AAAE-CD32FEE925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Electric Potentia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907640" y="4266720"/>
            <a:ext cx="7083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6422760" cy="4343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1763640" y="5084640"/>
            <a:ext cx="590400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 Potential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3357360"/>
            <a:ext cx="511164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lectric potential energy stored in a system with two charges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eparated by a distance r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6084720" y="3716280"/>
                <a:ext cx="237672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Rectangle 5"/>
          <p:cNvSpPr/>
          <p:nvPr/>
        </p:nvSpPr>
        <p:spPr>
          <a:xfrm>
            <a:off x="684360" y="5300640"/>
            <a:ext cx="50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1q2 &lt; 0 charges are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1q2 &gt; 0 charges are un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5148360" y="1773360"/>
            <a:ext cx="3095640" cy="15462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7"/>
          <p:cNvSpPr/>
          <p:nvPr/>
        </p:nvSpPr>
        <p:spPr>
          <a:xfrm>
            <a:off x="539640" y="2060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done is the change in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lect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tential energ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charge in an electric fie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 Potent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potential energ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r unit charg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referr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ic potenti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ju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tent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ic potential (V) a distance r away from a charge q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nge in electric potential between two points is the electric potential differe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(also know as the volt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3492360" y="2924280"/>
                <a:ext cx="1800360" cy="13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q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3348000" y="5300640"/>
            <a:ext cx="194472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arallel pl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lectric field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consta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4"/>
              <p:cNvSpPr txBox="1"/>
              <p:nvPr/>
            </p:nvSpPr>
            <p:spPr>
              <a:xfrm>
                <a:off x="2195640" y="2924280"/>
                <a:ext cx="46098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E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D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5"/>
              <p:cNvSpPr txBox="1"/>
              <p:nvPr/>
            </p:nvSpPr>
            <p:spPr>
              <a:xfrm>
                <a:off x="6156360" y="3933720"/>
                <a:ext cx="2133720" cy="15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18:41:54Z</dcterms:created>
  <dc:creator>Chanh &amp; Nhat</dc:creator>
  <dc:description/>
  <dc:language>en-US</dc:language>
  <cp:lastModifiedBy>Katie</cp:lastModifiedBy>
  <dcterms:modified xsi:type="dcterms:W3CDTF">2014-07-11T15:34:16Z</dcterms:modified>
  <cp:revision>12</cp:revision>
  <dc:subject/>
  <dc:title>Electric Potential</dc:title>
</cp:coreProperties>
</file>